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D6C8-926B-476A-A6F8-E41968E3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9525-E33E-4503-A476-7514627D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084C6-24DE-48E1-9F7C-2FE4171F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C0A1A-B97B-4A2E-99E7-D24BC912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2631D-16CD-4514-AF50-546C2C85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A441B-3754-416C-9737-F19D1F10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AB924-BF0C-4D08-8085-F6910418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9BE15-3293-443F-9068-A2CF8DB5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35B79-5021-4E0C-A0A1-16CF1950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6E775-84AC-49EF-9E0D-22226B65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01ABF-7A8E-42C9-923D-7EE67B31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82D46-E457-457D-8B42-12F55AC0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BC9-9165-4388-B468-44AA0497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4DAFE-B933-430B-9E2C-98571578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C1D89-711F-48D0-B47F-3CAD36FA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79C48-9FDB-4C61-B19A-A7CF2991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903B0-F91B-438B-9F2F-37AC65E8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44F5C-7A7E-4415-B7AA-DB5FFAD5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6A27F-6B10-412A-B2ED-6C69CB6B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74BB0-3738-49CB-AE54-20EBA18C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5E526-953F-4FEB-BB80-5C428276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5F9DF-1C92-4FB0-BF88-79D5A5A0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BB61C-5735-4049-90FE-A83C0742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9A4E-4FAC-4958-AED6-ACE8F98E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F0D19-88E7-4F79-9394-B34E76F4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2FE94-DEDC-4182-B0BF-3ED5E956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14610-3521-4500-98B2-BE52A866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8088C-575C-44EC-9DD3-37B26EBE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E5F1C-2778-4E0B-8C9F-0A9423FE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A4FCF-1DA6-4C79-8F4D-9A974078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ED1C5-3087-4A3A-AC65-E229C9A5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5BCB8-560F-418C-8481-C612D32D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F1541-02F6-44BD-8371-85A35B29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70CCD-4981-422C-9C48-DB9ACAF9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ACC7-30FD-4474-BD11-D947768C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6AD28-8FB9-449B-88EE-2137A4D0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069DA-A72C-4BF3-8CFE-47D07E9B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BA1E1-75B5-4DE3-93C6-4A630F86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9C8C0-8CDE-4970-9E38-98B0C9C4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4FDD4-0724-4463-B4A1-CCD12A2C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7C56B-C456-469B-988C-13E7D5F4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2EEBD-6E89-44EC-82A3-E097AA9A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0E936-99FF-4086-845E-B11B717B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E0E4B-4B90-4B10-B83F-E72D35E4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7C947-BF4C-4B77-AB49-02BDBE01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DEAA-6DC6-42D8-843A-BE1A5AC2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1D0FA-332F-4CAF-A5A0-18C58518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A3998-26F9-470D-92B2-A142D8F1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A69DD-1357-4D3D-B088-E253CF1F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6A6A2-59E2-494F-B64B-729BC92E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61A64-4822-4062-A81F-CAF2647C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EECF2-4F8D-4F96-B709-771A43ED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7FF5EF-1F52-4F6A-A087-793D16C5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011A88-F726-49E1-8230-C4BE7421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448FE-0AEA-4885-958A-6FEDDEDE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59A477-6045-442F-B771-CEF59DFB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D736-9E63-42B6-9CC2-753683A3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130B5-B3E2-40F6-B910-D8F337FF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C7637C-214F-4E7F-8710-3CE21B68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C4F069-12C1-4DE9-8C3F-8EB27A44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E3362-F27A-4394-8D94-CCF1E7F8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49CBFC-A32D-4DFD-8800-167EA2CE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FE097A-5DCD-4345-8B88-2E4E0B78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CB99FE-4B22-4AC1-961D-D77586EC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DBF61F-35D8-4106-A032-33719639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62DCE2-985C-413E-974F-B17BFD83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67AC6A-F72F-4387-8264-2188282B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CEE7-592E-4176-99CD-A017FF63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98277C-47E2-45B8-8345-144AB877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24A7D1-F1DA-4A0A-8484-C7A1CBD2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6D985C-3DB9-427F-8FBB-1707E3FD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58E646-E4FF-4BC3-A2ED-068ED5D1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CFB940-2B27-41C2-A4BF-C20CEC54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3E7AFC-D893-4D49-9787-1570759A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A3B77F-D01A-48BC-8DAC-77CC9DC2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106D4-1A2B-4653-9C79-EBEF4FF6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51820-A196-4EF1-AEF5-04D74604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0AECED-79C6-4D45-9A3E-D24CEFE2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859E-8AA0-4059-99B0-1A201FC0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AD4F7E-8AA3-404A-BB13-44717C2F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CFCE23-413D-42F2-8B49-744C6B72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D13F06-A06F-451F-A690-6E110256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15E766-553C-48DD-AAF9-FC865FB4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36FF52-6459-45BC-B5CD-8A97C655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093AA1-C6EF-44F2-932C-D0C3E294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6031A7-61A6-4E77-B371-2B4EFE03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B21827-14A9-45FF-AFC9-FFE07641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7A79CA-C308-412A-BAD6-5A6B3AD6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51209E-4D18-4330-9D20-BABD20E4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9011-9E96-4E0B-957B-93997E21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956D4B-B7E7-4D6D-A29E-01A348E6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EFEA0E-81FE-4787-A4C0-0C9A5A29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E93D52-4675-4369-A269-A3D6CBE5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7D5C01-0C3D-4A37-ADC2-9AF901D4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045C62-7670-4863-882A-F6B77A9E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257430-5986-4AFF-9A86-567E9095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212570-247D-4FD7-A1AD-EA12B6D3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D48D4B-0ADB-4D0F-ACA5-2BEC0E70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889D3F-96B0-4E61-8EA2-A8BF87FC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79AD85-4BDA-4F08-B680-8BD8EA1A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0FA1-24E3-4080-89E0-50B07774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3E3314-20BE-4DA3-9A04-89EE2F12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293E74-6412-40C4-9093-C9214E09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657638-B821-46AF-9A98-7AA0127C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95969F-5272-4E0D-8B73-55365344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1633A1-53D0-4232-B28B-C158F0C9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45B288-22F6-4882-9FC8-B8110D86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62D51D-2EE6-4ADE-9FD7-B75F329A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1AAA55-71C0-43A1-93B6-81E51684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33D21E-2AAA-4862-ADF5-6D7CD061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0B430B-1413-4C4C-A33B-16CD2D3C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BC0C-97C7-4151-8843-43257975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4444-2122-497C-9CBC-BAD746B2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1D549F-6005-4093-AEA2-353A03E9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FB5E06-12E0-40B1-82A2-097A00DC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B9FAAD-A386-42DE-B1E3-2A4F8925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F94F7C-6358-4B01-80A9-2930C2D0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1DA76E-A198-4CA0-A3FF-863DFB93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D69C30-A362-4DE2-AABF-2EE9B1E5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88D3C7-6026-4ADD-B4BF-061B744D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79D3DD-79D7-4E6A-983A-8C0234B1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5BC9D5-C833-44DB-A699-CAF3D017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C171A8-84DF-480D-90AC-88818D8D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01F5-3DC5-4618-B30D-ADEF4D0E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0F6338-D0F0-4EE2-92E4-3EF01FFD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9E38AC-8924-4968-A658-FD0FA628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2C1AB6-102D-44F9-B9A4-38CE43AD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CB4B9B-18EA-48CB-8BDD-3D7E0789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3925D3-5480-4320-BF76-8FEA4585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B514BE-9D61-4603-909C-F83568A4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E82628-560E-410A-ADEC-C5E1EC98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D6F232-6644-46B6-AFCD-0B0AAE6A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1B78A6-33FD-49AE-931C-9C7D014C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8104B4-12FA-4338-ACC6-4988CD4D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E12F-760B-43A3-9DA4-4CDD288F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27F45C-9F5C-4BAE-9C1F-33BD25CA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2B853F-0212-441C-9FBB-E2CBFCDA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7486D5-898F-46AE-8ABF-DFDF8F04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FDE199-D4BF-4F31-B26C-55335C9E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BDCACF-C287-4B4F-A367-3D1A04FD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C0AC82-ACED-4B4F-BB02-C0602BE5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2C69D9-FA36-446B-B406-832FD652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189834-1F5A-4BF4-97A2-BBB4EBEB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3BA3F9-EC5C-436F-9F99-35E56F14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7CB5D3-76B6-4B88-9558-703C175A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C131-2AB8-4BCE-AB2B-EE4ADB73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2FC0B6-7B17-46A5-A017-7B7C2DB4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EBC35E-0F15-4405-BA1C-FA598FCD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A780CA-0973-41FF-90C0-18FA30E7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5CD3E9-A21C-43E4-A2F7-BF532E16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0273B9-4260-42AD-98A6-4B25E2A0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F50218-5D2C-4EFB-96DA-12C4601E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09CA0D-8767-4303-88EF-8C328532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0B9C65-C93E-4F97-B72E-B5022765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CEDA53-E440-49B0-83DA-1D722862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B3BD61-07AD-41B7-9B37-7084820D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6E53-F6E6-4158-9A22-B231AF78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0BACB2-C6BC-4865-82AE-215B8167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678494-18EC-4AF4-8B63-B9474C5F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7A54E7-9DE6-4F16-A7CF-D876ED5D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54F609-69BB-4147-812B-B3176EB8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5E9E8B-88EE-4B30-9A3A-33EA8626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DC1E22-D7C7-447B-A6C0-8878D1FA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29B013-C4E7-4072-8294-B1A80844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81AB66-F595-4D19-8832-CE8F424E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E7BAC3-A151-49C1-9919-AC625D22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A20CFB-B013-42A8-BC5F-EFAF0874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53D91-25BB-42C5-A22A-266C0C49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2C0925-3B72-414A-A4F9-F4863E54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DAD567-DCE3-49FF-8A54-3FB79638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BC3133-B5A5-4C9D-BF0D-43AE8177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E21EA6-43FE-4E5F-81FE-D9E9E510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D7B2E7-45E3-4A85-9132-8C7C9F74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CD0403-07AD-4E2A-A3DA-D6E6D36A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62E10E-E9D3-4B1C-99DD-29318F73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0A7514-7BD6-42CF-A81C-F6415FBA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B5DD80-056E-4800-B805-C66C4519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787644-37AE-4B78-9019-41085125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A04CC-989D-4D62-BC6D-6FBA8E70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A78EB3-34D5-4F2B-B8A5-11BB7153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D2117F-CF06-4D04-9DF4-5CE6BC35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E6F95A-BF35-4D4F-8310-5429EC71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447794-FC2F-4ED4-8A4E-517662DF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B345E6-C279-4E35-AEFA-13CA0A6B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23676C-52EA-4AF3-93CD-BB6B71CC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FD5623-4731-4E09-9430-DC8FAC7F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CEF761-CC0C-4999-8EC8-E827124C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F85139-9858-42A1-B145-9C357ED8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1365EC-D337-471F-B196-794F3074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A7B7B-EB7A-42E7-AAC2-9490511F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046D4D-33AF-42EA-BBF5-17E60E6B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4396BC-C3DB-44F8-A7CB-557BCD9A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36062D-6260-45E7-A3E0-2CEBDCD6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814019-2CC2-443B-8E7F-BD8D2ECD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4EBA03-37C3-46AE-9979-006B34E7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AA9904-027B-4E7D-BF82-A10E550E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0F6ED2-C60F-45D5-93B0-DFFF4BCA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D99FB-F1D1-424C-9088-EA71A0F3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CF14C-9666-436B-9B53-E7736B61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E9C-58E0-4BAA-91A3-0799F6F6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CF270-ECEB-4A49-814E-2559BF17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677CD-8305-4791-AC88-9D8292DA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B2DD3-2283-442E-84C0-C9AB3226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C3969-70A6-4B61-AE0C-915BB6C7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70022-C71E-4B20-A9CF-52D8BDB8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B7D78-B898-471C-9AA2-EA8A23A8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BBF9F-BBD4-4D0C-9D57-1049AD1E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2D62D-B98E-487E-A621-4BDA6D2E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08744-523A-4EF1-B615-875E2CAC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39C62-630F-40F9-90F7-E343272C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6A0C-3159-418B-BCB4-13E5A63B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2CBE0-8D0C-424C-A075-02F6652E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A200E-EBB1-444E-B45B-A7250FBD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BCF65-B410-4621-877E-8066005A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E1C1B-0E86-4AC3-A62E-FA9E2EEB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523C3-1093-492B-80A1-A325308B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4729A-F857-40F7-971A-911E8210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360AC-4537-4F7B-83F5-DAF2DC5B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1D5A6-E9CF-4298-A9FC-23384A48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50AA1-64E4-4DDA-BFAD-6EC7CFBC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97DAD-8F7C-4000-BACA-F34FA905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8EF-AAE3-425A-BB82-CC9C597C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35CE7-DB47-41DD-B95F-6760F9D8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89636-29B5-4F9C-8BB7-D28F7B93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F12CE-C484-4BBA-A00D-A71B7691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D7C70-3879-45B9-83A6-73ECB077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341DF-CDDB-4FAE-A6A1-91E23E5E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9A1C8-E504-4052-B876-A3B8B13D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2D6DE-145C-4E58-A92A-22670AD0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D9A9D-D3D5-4DDF-A3E6-0919D42E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4D917-2A97-475C-B05F-7A1A3C98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8106F-CA4E-48BC-A2E3-5A2A4274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BE08-9CCF-4766-A48F-FFEA781B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9874A-5BA9-4259-ACBA-D19F7C7D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1F3E2-48BC-4E91-BD43-CE89C76C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FEAD1-F4E4-493B-A25D-7CE25CA3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88B34-BC5F-429C-808E-E0682046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F6A35-75CE-4030-AE85-87628EC0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67D1C-52E3-4061-9916-43C2A636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4785B-D55B-4ADB-B88F-23A7E85F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457AF-C4AF-472A-963E-CA56A6CF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20FA6-CF26-4142-B58B-C77CDF54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99221-5CC0-4554-9A66-EC501B7D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873-B667-4B07-B759-2C39CD59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AA075-EFC2-4F0A-B253-6082167D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D985F-C055-485E-8CF9-B3009031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F657D-1AE3-49DA-8309-7163545F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F1578-2868-423D-8094-77B59A0F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C81C6-C8DD-4081-9F2A-A2B94568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FBEBF-BBB0-42B5-9846-69CD407C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0AEB1-D5BD-4161-9602-0CDCCDDF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EB3B3-4D95-4128-A0AA-6560AA57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9B448-DFDC-4840-BCC8-999BA46B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3064F-F342-4716-947D-EE6E57C3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9FB-5D1D-4935-84E3-3977625A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64C45-465B-4201-8A59-2723DCED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560CD-B65D-48B3-91E9-730D711D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DADC4-8ED2-48FF-B64A-70B9489E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1770C-9BDD-4F87-9759-5F4137CC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10379-5124-42B4-B885-403BF92A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4D5EE-7D88-4204-B276-762C9A3B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BECCF-B36D-4021-B92D-A0D6509B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FDBC6-E0F0-4F5B-8C26-01C5C714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6A68B-446E-4F74-887F-4A26533B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BC3DB-7A5E-41ED-AF04-2236A77F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6EE-49FB-47DD-9B2D-BAF7E766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330FC-54AF-4993-B976-14A636A6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F0A87-FCD0-446A-86BB-1E68406D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30805-639B-4F3D-B419-22F4CB5D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8F7DE-99EC-4CB2-A5AC-BA57DA9E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E5377-578A-4284-94FA-737FD884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16849-5E6E-4F9B-8702-855D45C7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56A30-67A6-427C-B3EC-7B754742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2E1A1-E92D-4FD8-A08D-82523740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06A91-3D3F-4BB9-B2E0-2C93F8A7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91146-2877-47E6-9996-BFB301A2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70B8-581E-4F53-8664-CBE927C957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3FD0-7EF9-4826-A564-EC5A6990C9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BB08-6256-442F-9C0A-203F6276F0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C26D-89A4-489C-A4D2-0E347EE5B6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256C-EDE5-45C7-9DEB-CC9A248B06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526F-F37B-4A6C-AD04-16AC134AA8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743F-770E-4C1D-8694-63675FAB97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6B41-DF95-4889-BAC5-71AB83D4CE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E780-0F93-4EBC-8DDB-514D53913F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8AA2-2AE1-4B1D-BEAC-1D801171B1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BD06-FEA6-436B-88AF-C1062ABB17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DE8D-1B60-4998-9816-08F4C15828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0D8D-04BB-4FF0-860A-BF85D271EB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243F-00C0-46E2-A760-D581FE35EF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FDA2-9ECD-45D1-9858-A276E235EC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B173-6300-45CB-A5AA-75E0F6BB84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118A-78A9-44B0-9FAE-641F0EC9DE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CA0A-9244-4358-9F62-8CC66D23BB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0B3F-2935-4AB4-9C83-29E9F89D44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5174-221F-4CFC-8E3B-06EFB5A1E0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F1CE-3A55-4E0E-85D3-55BE5AA2DF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C8C5-4AB2-4138-BA18-CD42BDE77AD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742F-EBA5-4F89-8C0F-30E64D5ED0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1278-1DD7-4392-BF98-DD5D6744E1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2666-3E8C-49B1-B87E-7B6084412C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67F8-4E32-41C1-89C0-F99819CCB9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C4F3-402C-486D-BDF6-871D9455B0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B1A9-6BD1-4605-83D7-6E2D0D0328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D9C6-E2CE-49FF-AAF7-173E8E30A7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98F3-808C-419E-A7FF-F44D4B035E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DAEC-BB6A-4670-94AF-FDB172BD01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4AD4-247A-4267-8B40-27408B7FCA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2B20-4E88-45C8-861B-57F835C2F2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42AB-C270-4F0E-ABC5-577FCCB5A82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C0FC-4DBE-4B73-8D8B-ED7FD59F98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B0C1-AB7A-48F8-A3BE-FD8F4F02F4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063B-911E-49DD-B252-9F5C91A7A6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9797-3043-46D1-B253-041C09375B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B3E5-E505-4CF5-91C6-4A5C0FDCA0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B6DA-940A-400A-B1D1-B58D8552A7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BAE3-D376-4F6C-9C74-2044E6C183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220B-EC66-4D4E-9F8C-0807DD0E9D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76320" y="2976480"/>
            <a:ext cx="89913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93600" y="1327320"/>
            <a:ext cx="8956800" cy="182556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2" descr=""/>
          <p:cNvPicPr/>
          <p:nvPr/>
        </p:nvPicPr>
        <p:blipFill>
          <a:blip r:embed="rId2"/>
          <a:stretch/>
        </p:blipFill>
        <p:spPr>
          <a:xfrm>
            <a:off x="1224000" y="3444840"/>
            <a:ext cx="6696000" cy="22766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3348000" y="1728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3203640" y="227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6012000" y="1773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6"/>
          <a:stretch/>
        </p:blipFill>
        <p:spPr>
          <a:xfrm>
            <a:off x="6084720" y="227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7"/>
          <a:stretch/>
        </p:blipFill>
        <p:spPr>
          <a:xfrm>
            <a:off x="8101080" y="1773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8"/>
          <a:stretch/>
        </p:blipFill>
        <p:spPr>
          <a:xfrm>
            <a:off x="8459640" y="227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9"/>
          <a:stretch/>
        </p:blipFill>
        <p:spPr>
          <a:xfrm>
            <a:off x="3419640" y="407664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10"/>
          <a:stretch/>
        </p:blipFill>
        <p:spPr>
          <a:xfrm>
            <a:off x="3276720" y="47242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11"/>
          <a:stretch/>
        </p:blipFill>
        <p:spPr>
          <a:xfrm>
            <a:off x="6372360" y="403380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12"/>
          <a:stretch/>
        </p:blipFill>
        <p:spPr>
          <a:xfrm>
            <a:off x="6659640" y="4667400"/>
            <a:ext cx="79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0160" y="1181160"/>
            <a:ext cx="8743680" cy="449568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406728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6184800" y="4235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716436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6156360" y="507060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452520" y="750960"/>
            <a:ext cx="8238960" cy="58482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3924360" y="17146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5997600" y="1773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6948360" y="1700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5983200" y="2637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6"/>
          <a:stretch/>
        </p:blipFill>
        <p:spPr>
          <a:xfrm>
            <a:off x="4989600" y="3645000"/>
            <a:ext cx="195876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7"/>
          <a:stretch/>
        </p:blipFill>
        <p:spPr>
          <a:xfrm>
            <a:off x="4067280" y="531504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622440" y="92160"/>
            <a:ext cx="8351640" cy="66736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1258920" y="1830240"/>
            <a:ext cx="309708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1187280" y="2565360"/>
            <a:ext cx="309744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4859280" y="183024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5"/>
          <a:stretch/>
        </p:blipFill>
        <p:spPr>
          <a:xfrm>
            <a:off x="4788000" y="256536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6"/>
          <a:stretch/>
        </p:blipFill>
        <p:spPr>
          <a:xfrm>
            <a:off x="1474920" y="4854600"/>
            <a:ext cx="352872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7"/>
          <a:stretch/>
        </p:blipFill>
        <p:spPr>
          <a:xfrm>
            <a:off x="1403280" y="5589720"/>
            <a:ext cx="352908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8"/>
          <a:stretch/>
        </p:blipFill>
        <p:spPr>
          <a:xfrm>
            <a:off x="1403280" y="632448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9"/>
          <a:stretch/>
        </p:blipFill>
        <p:spPr>
          <a:xfrm>
            <a:off x="5435640" y="4811760"/>
            <a:ext cx="352908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10"/>
          <a:stretch/>
        </p:blipFill>
        <p:spPr>
          <a:xfrm>
            <a:off x="5364000" y="5546880"/>
            <a:ext cx="352908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11"/>
          <a:stretch/>
        </p:blipFill>
        <p:spPr>
          <a:xfrm>
            <a:off x="5364000" y="6281640"/>
            <a:ext cx="352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466560" y="2247840"/>
            <a:ext cx="8210880" cy="23623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2700360" y="2565360"/>
            <a:ext cx="15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5076720" y="2997360"/>
            <a:ext cx="863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538200" y="1362240"/>
            <a:ext cx="8067600" cy="41335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3348000" y="394812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1476360" y="4508640"/>
            <a:ext cx="6335640" cy="447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3492360" y="5084640"/>
            <a:ext cx="381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1257480" y="1581120"/>
            <a:ext cx="6629400" cy="3695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3635280" y="3341520"/>
            <a:ext cx="36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908000" y="3860640"/>
            <a:ext cx="597708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3995640" y="4508640"/>
            <a:ext cx="3600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257040" y="601560"/>
            <a:ext cx="8629920" cy="62010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2627280" y="249228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1403280" y="3054240"/>
            <a:ext cx="511344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2700360" y="357336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2556000" y="5300640"/>
            <a:ext cx="352872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6"/>
          <a:stretch/>
        </p:blipFill>
        <p:spPr>
          <a:xfrm>
            <a:off x="1403280" y="5848200"/>
            <a:ext cx="432108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7"/>
          <a:stretch/>
        </p:blipFill>
        <p:spPr>
          <a:xfrm>
            <a:off x="2627280" y="6381720"/>
            <a:ext cx="352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271440" y="851040"/>
            <a:ext cx="8705880" cy="58957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1042920" y="341316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1042920" y="3990960"/>
            <a:ext cx="30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971640" y="4552920"/>
            <a:ext cx="655308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1116000" y="508320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1116000" y="5661000"/>
            <a:ext cx="30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7"/>
          <a:stretch/>
        </p:blipFill>
        <p:spPr>
          <a:xfrm>
            <a:off x="1042920" y="6237360"/>
            <a:ext cx="4321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0:2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